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B6C-83F6-47B8-9C92-78CDA3A2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4DF-8488-4334-A3EA-5033ED82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A76-5BC9-4344-9192-EB6CAAFC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96F-3284-4485-BD1B-EA0E74EB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7B4-49F4-45AE-ACA7-3F446967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F37-35B8-43EF-B6B1-A395FEA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81C-F98B-4FCE-9696-4B93DBC1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EE3-4142-47D7-B834-E2AE4DDC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758-0BEB-4889-80F2-CE2741F9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EE8-136E-49DC-A8DA-AC75FF0C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B18-6872-431D-AE66-F00BAC6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698-7DBF-495E-8555-FD568BF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7C5-1397-427A-8D13-C0EB7F365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293"/>
                </a:solidFill>
                <a:latin typeface="Arial"/>
              </a:rPr>
              <a:t>ROANOKE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680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760" y="609480"/>
            <a:ext cx="3744720" cy="551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81280" y="1654200"/>
            <a:ext cx="52578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 New Settlem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17 peopl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one without a trac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293"/>
                </a:solidFill>
                <a:latin typeface="Franklin Gothic Medium"/>
                <a:ea typeface="MS PGothic"/>
              </a:rPr>
              <a:t>WHERE DID THEY GO?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8296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0320" y="152280"/>
            <a:ext cx="5040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257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3:37:51Z</dcterms:created>
  <dc:creator>sas</dc:creator>
  <dc:description/>
  <dc:language>en-US</dc:language>
  <cp:lastModifiedBy>sas</cp:lastModifiedBy>
  <dcterms:modified xsi:type="dcterms:W3CDTF">2008-04-22T09:13:22Z</dcterms:modified>
  <cp:revision>8</cp:revision>
  <dc:subject/>
  <dc:title>ROANOKE</dc:title>
</cp:coreProperties>
</file>